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3C3-38A2-4682-95E4-DDE11EC9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F79-864E-4C46-B347-8DDF437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111-A163-4D66-983D-A4DDF153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C39-DC2B-40D3-8D39-6B254D57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9F7F-E7D2-4220-ABC9-EF7FDFC2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2F3-BB8C-450E-BD2D-5BCECB7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8B5B-70A0-4175-AAA2-14C28A3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B45D-E7DF-4160-826C-5ACF5373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8ED-027F-46A1-B4C7-9E141C3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53AE-4B28-4751-AFD2-988C1AF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87A-C19A-4D81-9346-5B47E7F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912-9AF5-4F66-9589-42168D5D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6C72-2506-4480-96AE-533B2046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C73-B16C-4A52-A38A-77E9DDA4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BA18-B9C4-40F1-A5CC-8B3259B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EE8-A5B2-46FC-A73B-14C16032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6CD-4EFC-4378-BF7A-D6E2DC8F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43CD-DADA-429F-9280-6BEADFA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E5D0-3868-4579-A01D-77692FB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FACA-2720-46DB-822E-E8AD805C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80FA-8BE4-413E-847B-845FE5B4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7B51-855F-4F72-B20E-015AD0F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7B6-C2D0-431D-92BB-5EE7BB8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574A-02B4-4F20-AAC2-C5AAA18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4A19-EFF6-4A97-A990-7E996D2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8225-DBA9-47AC-8713-95FE6EA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589F-25C4-4918-A485-0E40457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DC5A-831F-4AA7-A598-832BEBC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D61C-FAF1-4771-8CE7-04DB7CF1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0DDD-456B-4E4D-950F-11C126DA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78CE-AFAE-441C-A736-2DF8C20A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F11B-AB13-4B81-AA2B-59A2669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DEF4-7D4D-45A4-86BF-3AA7D80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032-9FFA-4FA9-87A1-C712EE3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7AF8-EB51-4ED2-9FAE-4D86944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46E9-5BF4-4A03-82EB-FA8C411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BF56-1BF2-4D94-B538-505CAA7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ABE3-F2F5-441A-90D7-840AD46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C939-6F18-4579-A601-86B21F9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4A3E-1697-47D2-9CAB-E1E4098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4194-0EDC-419F-9EED-9918F5E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C7C8-85BA-449D-AFE4-95351D36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43BE-E8EE-435A-8654-35009BF0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A9DA-02CE-438B-ADCB-85CD6CE3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B8D-6787-464D-9C04-073DBD6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0B21-0753-4323-922E-84E524E0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C393-FB63-404D-AE86-37EE7CD4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C9A9-5106-4B3F-AF1A-16A11F22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74E2-0136-45B4-BED3-71AE0FC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9763-A883-41B9-8A8B-0BD52E9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C7AF-379A-4662-AB27-340557F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F2B9-AF03-4C98-BCDE-DB47791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DFFA-F3D5-4E53-A17C-6EAAFEF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5E41-8983-4CE9-88DD-20F90A89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2732-828C-4A1D-9EFE-4A5D874D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C3D-D6F1-447C-BC74-8CA6551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C60A-AABB-45D3-ACD8-044CE97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769-E596-4191-B7E2-1848DF3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193-F5C8-45B5-BC2B-EF045CD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A80-ABB5-4770-916C-142DF26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541-8853-4E33-BE49-6E5663D9B92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41C2-AA1F-41BD-A4D7-837BEEBABFC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1FF-499F-4EC5-B53B-1F3AC7F08D8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3BF2-D192-4B02-9F06-8CDF2A8775E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CB3-22C2-426A-9CAE-F4485426327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hyperlink" Target="http://macroevolution.narod.ru/kovalev_neand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852640" y="530280"/>
            <a:ext cx="65106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7555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Белецкая Ирина, Белецкий Сергей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Центр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NewTraining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осква,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428760"/>
          <a:ext cx="8143920" cy="606564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8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фессор Элхонон Голдберг по результатам экспериментов выявил, что у  мужчин и женщин существуют предпочтительные стратегии принятия решений.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тратегия мужчин – контекстно-зависимая (в зависимости от текущей цели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стратегия женщин – контекстно-независимая (в зависимости от сформировавшихся предпочтений, независимо от цели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[36]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 сходному результату приходят и отечественные исследователи. Согласно [32] в кризисе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мужские стратегии ориентированы на активизацию оплачиваемой занятости, основаны на независимом действии, эмоциональной устойчивости и самоэффектив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Типичное женское поведение в трудной жизненной ситуации можно охарактеризовать как пассивное, ориентированное на выживание и поиск внешней поддержки. Женщинам свойственно не столько преодоление трудной жизненной ситуации, сколько приспособление ней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днако нельзя однозначно утверждать, что мужчины "лучше справляются" с трудностями. Данные исследования свидетельствуют, что мужчины зачастую выбирают неконструктивный вариант совладающего поведения: чувствуя свою несостоятельность и как профессионалов, и как кормильцев семьи, они опускаются на социальное дно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Женские же стратегии, ориентированные на выживание, снижают риск асоциальных проявлений бедности, хотя и консервируют ситуацию экономического упадка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[3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тратегия, экстравер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Тактика, интроверия, уступчивость, ст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0" y="428760"/>
          <a:ext cx="8143920" cy="457200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Широкая норма реакции, характерная для женщин, обеспечивает большую пластичность поведения и более высокую восприимчивость к воспитанию и обучению. Женщины лучше адаптируются к существующим условиям. Они предпочитают решать задачи не новые, но требующие совершенствования, довод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обще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мужчины лучше чувствуют себя в поисковой активности, нахождении нового решения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днако, когда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найденное закрепляется и совершенствуется, преимущества приобретают женщин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Экстраверсия, беспечность,  инту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Интуиция, статика, сенсорика, интроверсия, предусмотр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0" y="428760"/>
          <a:ext cx="8143920" cy="429732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норме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женщины и девочки более управляемы и покладисты. С этим связано и то обстоятельство, что женщины лучше работают на конвейере, меньше делают ошибок. Даже женский почерк отличается большей правильностью, единообразием, точностью по сравнению с мужским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енщины превосходят мужчин по вербальным тестам, кратковременной памяти, но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проигрывают в пространственно-зрительных способностях. Мужчины лучше ориентируются в геометрических представлениях, превосходят женщин в шахматах, музыкальной композиции и различных видах творческ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Беспечность, интуиция, л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Уступчивость, интроверсия, сенсо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20840" y="-291960"/>
            <a:ext cx="725472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0" y="1060560"/>
          <a:ext cx="8143920" cy="402264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гласно теории дихронной эволюции академика Геодакяна существу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специализация женского пола по сохранению генетическ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пециализация мужского пола - по ее измен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сли выделить два потока информации: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генеративный (передача генетической информации от поколения к поколени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из прошлого в будущее) и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экологический (информация от сред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из настоящего в будущее),- то легко убедиться, что два пола по-разному участвуют в н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Беспечность, 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дусмотрительность, ст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-291960"/>
            <a:ext cx="725472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0" y="1060560"/>
          <a:ext cx="8143920" cy="371772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эволюции пола на разных стадиях и уровнях организации появился целый ряд механизмов, которые последовательно обеспечивали более тесную связь женского пола с генеративным (консервативным) потоком информации, а мужского - с экологическим (оперативным) потоком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ак, у мужского пола по сравнению с женским выше частота мутаций, меньше аддитивность наследования родительских признаков,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уже норма реакции, выше агрессивность и любознательность, активнее поисковое, рискованное поведение и другие качества, «приближающие к среде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Все они, целенаправленно вынося мужской пол на периферию распределения, обеспечивают ему преимущественное получение экологической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Беспечность, рациональность, экстраверсия, инту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дусмотр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13840" y="857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20840" y="-291960"/>
            <a:ext cx="725472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0" y="1060560"/>
          <a:ext cx="8143920" cy="357480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9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угая группа особенностей, по которой мужчина становится «экспериментальным материалом» для эволюции - огромная избыточность мужских гамет, их малые размеры и высокая подвижность, обеспечивающие большую активность и мобильность самцов, их склонность к полигамии и другие этолого-психологические свойства.[5, 41]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Экстраверсия, реш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840" y="50004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апомним, в данной работе мы рассматривали только биологические отличия мужчин и женщин и связь этих отличий с некоторыми полюсами соционических признаков. Сведем полученные данные в таблицу: «+» - первый признак, «-»-второ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20840" y="-365040"/>
            <a:ext cx="7254720" cy="79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285840" y="1285920"/>
          <a:ext cx="7715160" cy="5394240"/>
        </p:xfrm>
        <a:graphic>
          <a:graphicData uri="http://schemas.openxmlformats.org/drawingml/2006/table">
            <a:tbl>
              <a:tblPr/>
              <a:tblGrid>
                <a:gridCol w="4643280"/>
                <a:gridCol w="1571760"/>
                <a:gridCol w="15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кстраверсия-Интровер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тика-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вестимность-Деклатим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тивизм-Нега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огика-Э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туиция-Сенсо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актика-Страте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структивизм-Эмо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с-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ррациональность-Рацион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ступчивость-Упря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спечность-Предусмотр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судительность-Реш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ъективизм-Объ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мократия-Аристокра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6200"/>
            <a:ext cx="7254720" cy="1152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285480" y="642960"/>
            <a:ext cx="7643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 женщины ярко проявились признак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Предусмотрительность - 4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Этика, Интроверсия, Статика – 3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ору признаков соответству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динственный ТИМ: Э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 мужчины ярко проявились признаки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Беспечность – 5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Логика, Экстраверсия – 4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Интуиция – 3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ору этих признаков соответствуют 2 ТИМ: ЛИЭ и ИЛЭ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пользование теории дихронной эволюции Геодакяна (женщина эволюционирует следом, как бы ревизуя эволюционные изменения мужчины) делает наиболее вероятной версию ИЛЭ(что также подтверждает известный факт о стрессонеустойчивости мужчин). В результате получаем ревизную пару ЭИИ-ИЛЭ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считаем данное исследование пилотным и в значительной мере дискуссионны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62960" indent="-203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1" name="Picture 5" descr="yin-yang1"/>
          <p:cNvPicPr/>
          <p:nvPr/>
        </p:nvPicPr>
        <p:blipFill>
          <a:blip r:embed="rId2"/>
          <a:stretch/>
        </p:blipFill>
        <p:spPr>
          <a:xfrm>
            <a:off x="7000920" y="4287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kovalev_neand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1389240"/>
            <a:ext cx="2540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20840" y="-646200"/>
            <a:ext cx="7254720" cy="115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85480" y="642600"/>
            <a:ext cx="7643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личия по признаку логика-этика видимо, никого не удивят. С этой разницей мы встречаемся н бытовом уровн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13840" y="83016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значим, какие факторы, влияющие на проявление ТИМа и способные повлиять в т.ч на диагностику, мы относим на сегодняшний момент к значимы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первую очередь это личный фактор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Уровень развития интеллекта. Чем он выше, тем, на наш взгляд, сложнее определить ТИМ, т.к. у высокоразвитых людей могут быть достаточно дифференцированы и вытесненные психические функции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Сфера профессиональной реализации. Будучи компетентным специалистом в определенной сфере, человек выдает в процессе диагностики поток наработанной профессиональной лексики, которую не всегда быстро можно отделить от ТИМной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146160" y="-291960"/>
            <a:ext cx="83995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актор сред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Влияние социальной среды. Фактор социальной успешности/неуспешности порой заметно искажает  проявление ТИМа. В соционике принято называть такие искажения социальными масками. Здесь мы гендерные особенности не учитываем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Влияние соционической среды. Соционическая среда влияет на информационный метаболизм человека (т.е. на процесс усвоения, обработки и передачи информации психикой человека), стимулирует его реагировать в контексте направленности среды, в которую он включен. Т.е. среда стимулирует человека реагировать и выдавать информацию по тем полюсам ПР, которые соответствуют избирательностям данной среды чаще, чем человек обычно реагирует вне данной среды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-146160" y="-291960"/>
            <a:ext cx="829008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Гендерный фактор.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Биологические гендерные особенности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c6c"/>
                </a:solidFill>
                <a:latin typeface="Trebuchet MS"/>
              </a:rPr>
              <a:t>Социальные гендерные особенности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данной работе мы обратимся к биологическим гендерным особенностям, в некоторых случаях рассматривая человека, как одного из млекопитающих, примат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ы хотим рассмотреть биологические гендерные отличия и их влияние на мотивацию и проявление типных особенностей у мужчин и женщин на примере анализа некоторых особенностей в строении центральной нервной системы (ЦНС) мужчин и женщин, а также краткого анализа механизма формирования этих особеннос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47760" y="-365040"/>
            <a:ext cx="740088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620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0" y="928800"/>
          <a:ext cx="8143920" cy="5121000"/>
        </p:xfrm>
        <a:graphic>
          <a:graphicData uri="http://schemas.openxmlformats.org/drawingml/2006/table">
            <a:tbl>
              <a:tblPr/>
              <a:tblGrid>
                <a:gridCol w="485784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жилл Голдстейн обнаружила, в частности, что некоторые зоны лобной коры, ответственные за высшие когнитивные функции, а также участки лимбической коры, участвующие в развитии эмоциональных реакций, у женщин крупнее, чем у мужчин. При этом у мужчин лучше развиты части теменной коры, участвующие в восприятии пространства, и миндалина - структура, чувствительная к информации, пробуждающей эмоции и вызывающей сердцебиение и выброс адреналина в кров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Зрелость эмоциональных реакций при относительной эмоциональной нестабиль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этика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Лучшее восприятия пространства при относительной эмоциональной стабильности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логика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 . Сердцебиение и выброс адреналина в кровь можно связать с эмоциями страха, агрессии, готовности к действию, быстрая мобилизация – полюс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решительность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20840" y="-365040"/>
            <a:ext cx="725472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0" y="857160"/>
          <a:ext cx="8143920" cy="5673960"/>
        </p:xfrm>
        <a:graphic>
          <a:graphicData uri="http://schemas.openxmlformats.org/drawingml/2006/table">
            <a:tbl>
              <a:tblPr/>
              <a:tblGrid>
                <a:gridCol w="5929200"/>
                <a:gridCol w="2214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рреляция между размерами мозговых структур у взрослых особей и активностью половых стероидов у плода позволяет предположить, что некоторые половые различия познавательной функции не служат следствием культурных влияний или гормональных сдвигов во время полового созревания организма, а носят сугубо врожденный характ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частности, исследования [18] показывают, что юные самки приматов предпочитают игрушки, которые предпочитают девочки, в то же время как самцы - игрушки, которые предпочитают мальчики. В работах Барон Коэна, в частности [19, 20] отмечается, что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новорожденные девочки предпочитали смотреть на человеческие лица (как на объекты, в которых присутствуют эмоции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мальчики на игрушечные автомобили (как на объекты, эмоций не имеющие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Соответственно, девочки больше следили за матерью, чем мальчики. Перечисленные факты могут свидетельствовать о врожденных гендерных различиях в поведени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э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л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34" name="Picture 7" descr="mozg3"/>
          <p:cNvPicPr/>
          <p:nvPr/>
        </p:nvPicPr>
        <p:blipFill>
          <a:blip r:embed="rId2"/>
          <a:stretch/>
        </p:blipFill>
        <p:spPr>
          <a:xfrm>
            <a:off x="5857920" y="2347920"/>
            <a:ext cx="2238480" cy="1366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Зеленые мартышки предпочитали те же игрушки, что и маленькие девочки и мальчики: самцы проводили больше времени за игрой с машинками, а самки - с куклами (диаграмма внизу). Возможно, предпочтения, обнаруживаемые при выборе игрушек детьми, могут иметь биологическую природу."/>
          <p:cNvPicPr/>
          <p:nvPr/>
        </p:nvPicPr>
        <p:blipFill>
          <a:blip r:embed="rId3"/>
          <a:stretch/>
        </p:blipFill>
        <p:spPr>
          <a:xfrm>
            <a:off x="6357960" y="3857760"/>
            <a:ext cx="14288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0" y="857160"/>
          <a:ext cx="8143920" cy="564372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же упомянутые исследования Голдстейн [16] показали, что у мужчин миндалина крупнее, чем у женщин (аналогичное соотношение у крыс, причем у самцов нейроны в этой области мозга образуют более многочисленные связи). Это обуславливает неодинаковую реакцию разных полов на стресс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зультаты экспериментов указывают, что ткани головного мозга самок обладают большей устойчивостью к воздействию хронического стресса, чем самцов. Есть гипотеза, что гиппокампальные нейроны от пагубного влияния хронического стресса защищаются половыми гормонами. [10, 11]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я подверженность мужских особей животных стрессу была показана в опытах Анищенко [12] (у самок продолжается секреция гормона кортикостерона в ответ на дополнительное стрессорное воздействие, что указывает на наличие у женских особей повышенных резервов адаптивных систем), Кузьминой [11] (при иммобилизационном стрессе с уменьшением в организме количества мужского полового гормона тестостерона адаптивные возможности организмы повышалис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трессоустойчивые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(аристократия-результат-иррациона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тресс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неустойчи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(процесс-иррациональность-демократ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уппы по В.Гул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857160"/>
          <a:ext cx="8143920" cy="6008760"/>
        </p:xfrm>
        <a:graphic>
          <a:graphicData uri="http://schemas.openxmlformats.org/drawingml/2006/table">
            <a:tbl>
              <a:tblPr/>
              <a:tblGrid>
                <a:gridCol w="5286240"/>
                <a:gridCol w="2857680"/>
              </a:tblGrid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днако в условиях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трого стрес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самцы крыс обучаются лучше, чем самки. Трейси Шорз [24] из обнаружила, что воздействие на хвост животных серии электроболевых стимулов улучшало выполнение экспериментального задания самцами крыс и увеличивало у них плотность дендритных связей. Самки в условиях стресса хуже справлялись с заданием, а плотность их дендритных связей уменьшала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Стрессотормозные – сопротивляемость стрессу понижается по мере нарастания стрес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оцесс-аристократия-рациона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трессо-тренируемые – сопротивляемость стрессу повышается по мере приобретения навыков адаптации (</a:t>
                      </a:r>
                      <a:r>
                        <a:rPr b="0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р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езультат-рациональность-демократия</a:t>
                      </a:r>
                      <a:r>
                        <a:rPr b="0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уппы по В.Гул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42" name="Picture 5" descr="Нейрон гиппокампа"/>
          <p:cNvPicPr/>
          <p:nvPr/>
        </p:nvPicPr>
        <p:blipFill>
          <a:blip r:embed="rId2"/>
          <a:stretch/>
        </p:blipFill>
        <p:spPr>
          <a:xfrm>
            <a:off x="0" y="4010040"/>
            <a:ext cx="1908000" cy="2847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Хронический стресс"/>
          <p:cNvPicPr/>
          <p:nvPr/>
        </p:nvPicPr>
        <p:blipFill>
          <a:blip r:embed="rId3"/>
          <a:stretch/>
        </p:blipFill>
        <p:spPr>
          <a:xfrm>
            <a:off x="2357280" y="5846760"/>
            <a:ext cx="2686320" cy="101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До стресса и После стресса"/>
          <p:cNvPicPr/>
          <p:nvPr/>
        </p:nvPicPr>
        <p:blipFill>
          <a:blip r:embed="rId4"/>
          <a:stretch/>
        </p:blipFill>
        <p:spPr>
          <a:xfrm>
            <a:off x="2314440" y="4572000"/>
            <a:ext cx="26863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3840" y="758880"/>
            <a:ext cx="7643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20840" y="-719280"/>
            <a:ext cx="72547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0" y="857160"/>
          <a:ext cx="8143920" cy="5643720"/>
        </p:xfrm>
        <a:graphic>
          <a:graphicData uri="http://schemas.openxmlformats.org/drawingml/2006/table">
            <a:tbl>
              <a:tblPr/>
              <a:tblGrid>
                <a:gridCol w="5786280"/>
                <a:gridCol w="23576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ионическая интерпре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9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ще одной структурой, чье строение и реакции на стресс различаются у представителей разных полов, является гиппокам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 помощью методов нейровизуализации показано, что у женщин гиппокамп крупнее, чем у мужчин. Такое анатомическое различие может быть связано с особенностями навигации. Результаты многочисленных исследований  указывают, что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мужчины определяют маршруты передвижения главным образом </a:t>
                      </a:r>
                      <a:r>
                        <a:rPr b="0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за счет оценки расстояний и ориентации в пространств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а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женщины - с помощью </a:t>
                      </a:r>
                      <a:r>
                        <a:rPr b="0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наземных ориентир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 Любопытно, что сходные половые различия выявлены и у крыс. Самцы отыскивают выход из лабиринта, используя дирекциональную и позиционную информацию, а самки - благодаря доступным ориентирам. [8, 9]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Беспечность,  л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дусмотр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2:09:08Z</dcterms:created>
  <dc:creator>admin</dc:creator>
  <dc:description/>
  <dc:language>en-US</dc:language>
  <cp:lastModifiedBy>admin</cp:lastModifiedBy>
  <dcterms:modified xsi:type="dcterms:W3CDTF">2010-11-08T11:25:23Z</dcterms:modified>
  <cp:revision>303</cp:revision>
  <dc:subject/>
  <dc:title>Проекция признаков Рейнина на модЕль А</dc:title>
</cp:coreProperties>
</file>